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3F1-61A9-4F1E-BC36-D4936D441BA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0465-30EA-4432-9EF6-6E5F62ABE5D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43C-79E2-4E3B-9F7B-2738BD50047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A1D-974D-4727-8EBB-12051E6EEF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54E-8496-4DC4-956E-A5EFA5B6971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9DA-3802-4CBF-A02B-539FAA92596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1A83-57C4-4042-93C6-1494772DFEE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33E-82D0-4FB4-86EC-AF611B7DA0E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F81-3390-4B8B-92E6-7587FAE674B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69E-16FD-424C-B0C3-DB7183C50B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196-65CF-45BD-9A4D-5A4587D2933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CFB5-AE2F-4ABD-B4A1-78EF6A0B49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D0AD-BC0E-48E9-82DA-890CA987D57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ABD-C822-482A-9B5B-C6EAA31FC1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E0D-1018-4A53-9705-D5D55A4B65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B6E-D92B-4813-AD94-BAE58AED56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479F-5229-46D7-BF0B-9564D97F4B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1937-E066-466D-9BD4-905F509B48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2199-880F-4FBF-AF0D-07860F22C4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D39F-A64D-4BB3-A1C1-6409FF38B9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07B4-F5F6-473D-A595-A6683A1FE8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7D8C-7211-4396-B9B4-E6E65E59FE3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26C0-76A8-49E5-9256-CF45F39D3AC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AB6D-2F94-4639-A0D0-BAFA9721FC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FC21-0EEC-4818-A7AD-B6B89D51AA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4BE6-A3B8-4486-BB15-CE12C28B02F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FE27-C105-4EE7-9204-4E6755BF22F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47F0-4E8E-4904-AF78-FACDB7CD478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9332-7D9F-49CA-8CEF-36BB807FEA3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8A4C-5ED6-4D39-8144-67B6976C257A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82160" y="76320"/>
            <a:ext cx="28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imer on Data Management:  Plan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24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571320" y="5016240"/>
            <a:ext cx="585468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6578280" y="5016240"/>
            <a:ext cx="585468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Meteorological Socie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w Orlea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anuary 22, 201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85320"/>
            <a:ext cx="3411720" cy="8125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6" descr=""/>
          <p:cNvPicPr/>
          <p:nvPr/>
        </p:nvPicPr>
        <p:blipFill>
          <a:blip r:embed="rId4"/>
          <a:stretch/>
        </p:blipFill>
        <p:spPr>
          <a:xfrm>
            <a:off x="7248600" y="7886880"/>
            <a:ext cx="1692360" cy="14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F53D-4FC2-4CD4-AF72-A911A98660C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1224" name="Group 4"/>
          <p:cNvGrpSpPr/>
          <p:nvPr/>
        </p:nvGrpSpPr>
        <p:grpSpPr>
          <a:xfrm>
            <a:off x="635040" y="2362320"/>
            <a:ext cx="12046680" cy="7175520"/>
            <a:chOff x="635040" y="2362320"/>
            <a:chExt cx="12046680" cy="7175520"/>
          </a:xfrm>
        </p:grpSpPr>
        <p:pic>
          <p:nvPicPr>
            <p:cNvPr id="1225" name="Picture 4" descr=""/>
            <p:cNvPicPr/>
            <p:nvPr/>
          </p:nvPicPr>
          <p:blipFill>
            <a:blip r:embed="rId1"/>
            <a:stretch/>
          </p:blipFill>
          <p:spPr>
            <a:xfrm>
              <a:off x="11074680" y="8077320"/>
              <a:ext cx="11872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2" descr="NASA4.jpg"/>
            <p:cNvPicPr/>
            <p:nvPr/>
          </p:nvPicPr>
          <p:blipFill>
            <a:blip r:embed="rId2"/>
            <a:stretch/>
          </p:blipFill>
          <p:spPr>
            <a:xfrm>
              <a:off x="2158920" y="8229960"/>
              <a:ext cx="12412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9" descr="USGS-Trans.tif"/>
            <p:cNvPicPr/>
            <p:nvPr/>
          </p:nvPicPr>
          <p:blipFill>
            <a:blip r:embed="rId3"/>
            <a:stretch/>
          </p:blipFill>
          <p:spPr>
            <a:xfrm>
              <a:off x="2921040" y="7239240"/>
              <a:ext cx="1828800" cy="674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28" name="Picture 10" descr=""/>
            <p:cNvPicPr/>
            <p:nvPr/>
          </p:nvPicPr>
          <p:blipFill>
            <a:blip r:embed="rId4"/>
            <a:stretch/>
          </p:blipFill>
          <p:spPr>
            <a:xfrm>
              <a:off x="8745840" y="5391360"/>
              <a:ext cx="2025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12" descr="DataONE_South America LOGO.tif"/>
            <p:cNvPicPr/>
            <p:nvPr/>
          </p:nvPicPr>
          <p:blipFill>
            <a:blip r:embed="rId5"/>
            <a:stretch/>
          </p:blipFill>
          <p:spPr>
            <a:xfrm>
              <a:off x="7340760" y="8356680"/>
              <a:ext cx="265572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6" descr=""/>
            <p:cNvPicPr/>
            <p:nvPr/>
          </p:nvPicPr>
          <p:blipFill>
            <a:blip r:embed="rId6"/>
            <a:stretch/>
          </p:blipFill>
          <p:spPr>
            <a:xfrm>
              <a:off x="635040" y="6858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Box 15"/>
            <p:cNvSpPr/>
            <p:nvPr/>
          </p:nvSpPr>
          <p:spPr>
            <a:xfrm>
              <a:off x="10132560" y="2362320"/>
              <a:ext cx="2549160" cy="825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Climatic </a:t>
              </a:r>
              <a:endParaRPr b="0" lang="en-US" sz="24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Center</a:t>
              </a:r>
              <a:endParaRPr b="0" lang="en-US" sz="2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1232" name="TextBox 16" descr=""/>
            <p:cNvPicPr/>
            <p:nvPr/>
          </p:nvPicPr>
          <p:blipFill>
            <a:blip r:embed="rId7"/>
            <a:stretch/>
          </p:blipFill>
          <p:spPr>
            <a:xfrm>
              <a:off x="9473400" y="6474240"/>
              <a:ext cx="29505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18" descr=""/>
            <p:cNvPicPr/>
            <p:nvPr/>
          </p:nvPicPr>
          <p:blipFill>
            <a:blip r:embed="rId8"/>
            <a:stretch/>
          </p:blipFill>
          <p:spPr>
            <a:xfrm>
              <a:off x="5435640" y="6629400"/>
              <a:ext cx="3009960" cy="95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4" name="Group 2"/>
            <p:cNvGrpSpPr/>
            <p:nvPr/>
          </p:nvGrpSpPr>
          <p:grpSpPr>
            <a:xfrm>
              <a:off x="9245880" y="3657600"/>
              <a:ext cx="3322800" cy="1138680"/>
              <a:chOff x="9245880" y="3657600"/>
              <a:chExt cx="3322800" cy="1138680"/>
            </a:xfrm>
          </p:grpSpPr>
          <p:pic>
            <p:nvPicPr>
              <p:cNvPr id="1235" name="TextBox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9245880" y="3657600"/>
                <a:ext cx="3281760" cy="11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Picture 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381040" y="3731040"/>
                <a:ext cx="1187640" cy="95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7" name="Picture 3" descr=""/>
            <p:cNvPicPr/>
            <p:nvPr/>
          </p:nvPicPr>
          <p:blipFill>
            <a:blip r:embed="rId11"/>
            <a:stretch/>
          </p:blipFill>
          <p:spPr>
            <a:xfrm>
              <a:off x="5054760" y="8074800"/>
              <a:ext cx="1478880" cy="146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9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0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42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3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45" name="TextBox 14"/>
          <p:cNvSpPr/>
          <p:nvPr/>
        </p:nvSpPr>
        <p:spPr>
          <a:xfrm>
            <a:off x="8026560" y="7924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BE8-0974-48E7-ABEB-F0869405CB0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, in mole fraction in water-vapor-free air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9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50" name="TextBox 5"/>
          <p:cNvSpPr/>
          <p:nvPr/>
        </p:nvSpPr>
        <p:spPr>
          <a:xfrm>
            <a:off x="787320" y="914400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1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5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90FE-C17E-4CD8-A25C-3FCBA597EA35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ard metadata (e.g., ISO 19115)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5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25E-22CB-4AB9-8DBD-88C1F6AF2A4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aggregated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606060"/>
                </a:solidFill>
                <a:uFillTx/>
                <a:latin typeface="Helvetica Neue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519-7374-4115-ACAD-E660BBAA808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nal data product will be available for use by the research and policy communities in perpetuit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archive metadata database at CDIAC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product citation, including DOI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698-3166-4C5B-B419-661B4A65807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65" name="Picture 2" descr=""/>
          <p:cNvPicPr/>
          <p:nvPr/>
        </p:nvPicPr>
        <p:blipFill>
          <a:blip r:embed="rId1"/>
          <a:stretch/>
        </p:blipFill>
        <p:spPr>
          <a:xfrm>
            <a:off x="2082960" y="2133720"/>
            <a:ext cx="8785080" cy="65865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66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73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74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7969-28E9-4D72-9215-D0CA7D187C5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7" name="Rectangle 1"/>
          <p:cNvSpPr/>
          <p:nvPr/>
        </p:nvSpPr>
        <p:spPr>
          <a:xfrm>
            <a:off x="5872320" y="3809880"/>
            <a:ext cx="2057400" cy="1905120"/>
          </a:xfrm>
          <a:prstGeom prst="rect">
            <a:avLst/>
          </a:prstGeom>
          <a:noFill/>
          <a:ln w="25560">
            <a:solidFill>
              <a:srgbClr val="218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8" name="TextBox 2"/>
          <p:cNvSpPr/>
          <p:nvPr/>
        </p:nvSpPr>
        <p:spPr>
          <a:xfrm>
            <a:off x="3225960" y="8686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s://dmp.cdlib.org/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MP Tool Out-of-the-Box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360000" y="2287440"/>
            <a:ext cx="11704680" cy="281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06060"/>
                </a:solidFill>
                <a:latin typeface="Helvetica Neue"/>
              </a:rPr>
              <a:t>Open to the communit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Helvetica Neue"/>
              </a:rPr>
              <a:t>Step-by-step ‘wizard’ for generating data management pla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General guidance for each section: help text and resources relevant to al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Resources  for 12 NSF Directorates.  NIH Resources coming soo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1" name="Content Placeholder 2"/>
          <p:cNvSpPr/>
          <p:nvPr/>
        </p:nvSpPr>
        <p:spPr>
          <a:xfrm>
            <a:off x="285840" y="4495680"/>
            <a:ext cx="393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reate, edit, re-use,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share, save, generat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a pla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Use templat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onnect users with your institution’s resourc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2" name="Picture 2" descr=""/>
          <p:cNvPicPr/>
          <p:nvPr/>
        </p:nvPicPr>
        <p:blipFill>
          <a:blip r:embed="rId1"/>
          <a:stretch/>
        </p:blipFill>
        <p:spPr>
          <a:xfrm>
            <a:off x="4629240" y="4653000"/>
            <a:ext cx="8235720" cy="41101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sp>
        <p:nvSpPr>
          <p:cNvPr id="128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5B7F-FBDF-423B-A67E-2F038B01612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ghly Developed Barbaris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5" name="Picture 6" descr=""/>
          <p:cNvPicPr/>
          <p:nvPr/>
        </p:nvPicPr>
        <p:blipFill>
          <a:blip r:embed="rId1"/>
          <a:stretch/>
        </p:blipFill>
        <p:spPr>
          <a:xfrm>
            <a:off x="406440" y="2006640"/>
            <a:ext cx="11941200" cy="66038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8"/>
          <p:cNvSpPr/>
          <p:nvPr/>
        </p:nvSpPr>
        <p:spPr>
          <a:xfrm>
            <a:off x="939960" y="5715000"/>
            <a:ext cx="761976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7" name="Straight Connector 10"/>
          <p:cNvSpPr/>
          <p:nvPr/>
        </p:nvSpPr>
        <p:spPr>
          <a:xfrm>
            <a:off x="8559720" y="5715000"/>
            <a:ext cx="43434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8" name="Straight Connector 12"/>
          <p:cNvSpPr/>
          <p:nvPr/>
        </p:nvSpPr>
        <p:spPr>
          <a:xfrm flipH="1">
            <a:off x="101160" y="5715000"/>
            <a:ext cx="83844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9" name="TextBox 13"/>
          <p:cNvSpPr/>
          <p:nvPr/>
        </p:nvSpPr>
        <p:spPr>
          <a:xfrm>
            <a:off x="76320" y="7620120"/>
            <a:ext cx="128268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</a:rPr>
              <a:t>dismissed as decadents living in a state of highly developed barbarism, hoarding data     without order, hunting their own young and fighting pointless formal wars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26E9-F70E-4CB3-8FF1-A9A81382B760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9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Data Management Planning Tool:  https://dmp.cdlib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4C99-20C6-4EFC-9638-06D37445847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n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1ADD-1C03-4E08-B25B-E57C058B019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ning for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1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1192" name="TextBox 1"/>
          <p:cNvSpPr/>
          <p:nvPr/>
        </p:nvSpPr>
        <p:spPr>
          <a:xfrm>
            <a:off x="10159920" y="7543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Life Cycl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E7B6-67B0-4301-B28D-18A1B0E70C2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orkshop describes how to                                                           create a DMP and practical                                         approaches for managing                                                        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6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7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ED8B-71AF-4DCE-9356-67812ECD8E6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ared, common data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sharing and preserv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0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1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2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EC3D-FA03-4BDA-8053-B62BCB3FE6B5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6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7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FC9B-1675-4F7C-8AAA-46243471CCD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spatial data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1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089-479C-4451-B4F5-D8B145A66A3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and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DA1-84EA-4D53-864A-3D05DAFFD2A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9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2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10C-085C-415A-886B-143B2F097C0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2-01-21T21:23:28Z</dcterms:modified>
  <cp:revision>102</cp:revision>
  <dc:subject/>
  <dc:title>ESIP Federation 101</dc:title>
</cp:coreProperties>
</file>